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8AB-0D6C-4275-B3BF-5446EB2C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81A-83C2-41F2-B4E4-59309658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F92-B0B3-4361-994E-0366921C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479-EDE9-4743-87CD-58DB7F7D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D099-D9E0-4347-B929-746C08A3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92B2-C8DE-4D2F-8024-C3A8D839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D5B3-70E7-4901-A62F-BE6E5500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64AB-3EFB-4C5A-8EC8-8474B714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6C7C-8FD0-4683-9FA4-F0557A03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C202-9C88-4356-A430-A9A8676D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6EF7-06E9-4C17-81D2-B018CBC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1C4-360D-4F3A-A343-8949251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5552-4AE7-456D-9D49-0D5B8269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F3EA-B719-4824-AD89-FDE749BC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39B0-2C6A-461C-92B2-A29647B5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E573-94ED-4524-AA11-7DF658A1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7A80-F097-4AA3-9C60-DE90AFAF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7B9-CFA8-4A09-B5DB-C755F3A0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C63-ECD8-4167-93E2-643672D7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D12-F2B9-4409-8664-3821BB88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B32-59D0-456C-B006-86F34F9D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9AC-F098-49F1-8152-8F290658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C82-0B18-4A53-B591-F5E5FD39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175-4427-4FA8-9F66-980EE902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8D5-0B40-4B22-8B75-8593F0E23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8E23-6630-442F-B57B-B4A758A5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bs are words that tell more about verb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bs tell when, where, and h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When 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dverbs tell w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 is going to the sto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en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a drink of wat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plac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in the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Where 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dverbs tell “wher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lk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 hi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kit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po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ow 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dverbs tell 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dverbs end with -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arou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w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bott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 sa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wee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by cri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u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5:23:21Z</dcterms:created>
  <dc:creator>GCSD</dc:creator>
  <dc:description/>
  <dc:language>en-US</dc:language>
  <cp:lastModifiedBy>teacher</cp:lastModifiedBy>
  <cp:lastPrinted>2005-05-09T18:27:58Z</cp:lastPrinted>
  <dcterms:modified xsi:type="dcterms:W3CDTF">2011-01-19T00:26:50Z</dcterms:modified>
  <cp:revision>2</cp:revision>
  <dc:subject/>
  <dc:title>Adverbs</dc:title>
</cp:coreProperties>
</file>